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4319280" y="457200"/>
            <a:ext cx="2282760" cy="19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move the slid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8176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1"/>
          </p:nvPr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86B-A097-4A1C-9E7B-F56B43C5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6153"/>
          <p:cNvSpPr/>
          <p:nvPr/>
        </p:nvSpPr>
        <p:spPr>
          <a:xfrm>
            <a:off x="0" y="15408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microsoft.com/tech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6154"/>
          <p:cNvSpPr/>
          <p:nvPr/>
        </p:nvSpPr>
        <p:spPr>
          <a:xfrm>
            <a:off x="5460840" y="136440"/>
            <a:ext cx="1397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NT1-1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tangle 16390" descr=""/>
          <p:cNvPicPr/>
          <p:nvPr/>
        </p:nvPicPr>
        <p:blipFill>
          <a:blip r:embed="rId2"/>
          <a:stretch/>
        </p:blipFill>
        <p:spPr>
          <a:xfrm>
            <a:off x="177840" y="8721720"/>
            <a:ext cx="1727280" cy="28116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16391" descr=""/>
          <p:cNvPicPr/>
          <p:nvPr/>
        </p:nvPicPr>
        <p:blipFill>
          <a:blip r:embed="rId3"/>
          <a:stretch/>
        </p:blipFill>
        <p:spPr>
          <a:xfrm>
            <a:off x="0" y="648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6D40-EA8B-41BA-B548-F3B62737BD9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hape 3"/>
          <p:cNvSpPr/>
          <p:nvPr/>
        </p:nvSpPr>
        <p:spPr>
          <a:xfrm>
            <a:off x="388620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9B37-C803-49FB-85FB-761830A97F0E}" type="slidenum"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6520" y="689040"/>
            <a:ext cx="4586400" cy="34416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CB0-AD91-49E0-B37E-5F47DD8EFB42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97400"/>
            <a:ext cx="50292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hape 3"/>
          <p:cNvSpPr/>
          <p:nvPr/>
        </p:nvSpPr>
        <p:spPr>
          <a:xfrm>
            <a:off x="2971800" y="8721720"/>
            <a:ext cx="520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C1A-3140-4AB1-B870-493E834F6E0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235240" y="600120"/>
            <a:ext cx="2427120" cy="1820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3920" y="2590560"/>
            <a:ext cx="6433920" cy="59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dd4f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3148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58400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36520" indent="-226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mailto:berndm@go-sky.de" TargetMode="External"/><Relationship Id="rId3" Type="http://schemas.openxmlformats.org/officeDocument/2006/relationships/hyperlink" Target="http://www.go-sky.de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120" y="222120"/>
            <a:ext cx="83296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400" spc="-1" strike="noStrike">
                <a:solidFill>
                  <a:srgbClr val="ffdd4f"/>
                </a:solidFill>
                <a:latin typeface="Franklin Gothic Medium"/>
              </a:rPr>
              <a:t>MSDN Webcast:</a:t>
            </a:r>
            <a:r>
              <a:rPr b="1" lang="de-DE" sz="3200" spc="-1" strike="noStrike">
                <a:solidFill>
                  <a:srgbClr val="ffdd4f"/>
                </a:solidFill>
                <a:latin typeface="Franklin Gothic Medium"/>
              </a:rPr>
              <a:t> </a:t>
            </a: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ffdd4f"/>
                </a:solidFill>
                <a:latin typeface="Franklin Gothic Medium"/>
              </a:rPr>
              <a:t>Einführung in das .NET-Framework (Teil 10)</a:t>
            </a:r>
            <a:br>
              <a:rPr sz="3200"/>
            </a:br>
            <a:r>
              <a:rPr b="0" lang="de-DE" sz="3200" spc="-1" strike="noStrike">
                <a:solidFill>
                  <a:srgbClr val="ffdd4f"/>
                </a:solidFill>
                <a:latin typeface="Franklin Gothic Medium"/>
              </a:rPr>
              <a:t>Alles parallel, oder? (Multithreading)</a:t>
            </a:r>
            <a:br>
              <a:rPr sz="3200"/>
            </a:br>
            <a:endParaRPr b="0" lang="en-US" sz="3200" spc="-1" strike="noStrike">
              <a:solidFill>
                <a:srgbClr val="ffdd4f"/>
              </a:solidFill>
              <a:latin typeface="Franklin Gothic Medium"/>
            </a:endParaRPr>
          </a:p>
        </p:txBody>
      </p:sp>
      <p:pic>
        <p:nvPicPr>
          <p:cNvPr id="85" name="Rectangle 3073" descr=""/>
          <p:cNvPicPr/>
          <p:nvPr/>
        </p:nvPicPr>
        <p:blipFill>
          <a:blip r:embed="rId1"/>
          <a:stretch/>
        </p:blipFill>
        <p:spPr>
          <a:xfrm>
            <a:off x="6588000" y="5549760"/>
            <a:ext cx="2556000" cy="1308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3751200"/>
            <a:ext cx="78613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ceb98"/>
                </a:solidFill>
                <a:latin typeface="Franklin Gothic Book"/>
              </a:rPr>
              <a:t>Presenter: Bernd Marquardt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74c35f"/>
                </a:solidFill>
                <a:uFillTx/>
                <a:latin typeface="Franklin Gothic Book"/>
                <a:hlinkClick r:id="rId2"/>
              </a:rPr>
              <a:t>berndm@go-sky.d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74c35f"/>
                </a:solidFill>
                <a:uFillTx/>
                <a:latin typeface="Franklin Gothic Book"/>
                <a:hlinkClick r:id="rId3"/>
              </a:rPr>
              <a:t>www.go-sky.d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9840" y="3362400"/>
          <a:ext cx="1028520" cy="457200"/>
        </p:xfrm>
        <a:graphic>
          <a:graphicData uri="http://schemas.openxmlformats.org/drawingml/2006/table">
            <a:tbl>
              <a:tblPr/>
              <a:tblGrid>
                <a:gridCol w="1028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Vorab-Analys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46960" cy="53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Bevor man mehrere Threads programmiert, sollte man prüfen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Ist eine saubere Abtrennung der Aufgaben des Threads möglich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Ist eine vernünftige Datenübergabe möglich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Kann die Applikation überhaupt andere Aufgaben ausführen, wenn der zusätzliche Thread läuft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uss im neuen Thread auf Resourcen zugegriffen werden, die sowieso schon blockiert sind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Thread-Typen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22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Unterscheidung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Hintergrund-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379520" indent="-404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Werden automatisch beendet, wenn der Haupt-Thread beendet wir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379520" indent="-404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Anwendungen: Aufräumarbeiten, langwierige Berechnungen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Vordergrund-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379520" indent="-404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Der Haupt-Thread wartet, bis alle anderen Vordergrund-Threads beendet sin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379520" indent="-4046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Anwendungen: Eigener Thread für ein Fenster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teuerung mit Property „Thread.IsBackground“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Erzeugung von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485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orker-Thread mit statischen Method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ThreadStart-Klasse zeigt auf die Thread-Funktion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Thread-Klasse erlaubt die Steuerung des Threads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Thread.Join wartet auf den Thread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Thread.Join geht auch mit einem Timeout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428840" indent="-398520">
              <a:lnSpc>
                <a:spcPct val="90000"/>
              </a:lnSpc>
              <a:spcBef>
                <a:spcPts val="82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Franklin Gothic Book"/>
              </a:rPr>
              <a:t>Abfrage, ob Timeout, ist möglich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Ist der Thread gestartet mit „IsAlive“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Bedeutet nicht, dass der Thread auch läuft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045120" y="5624640"/>
            <a:ext cx="1486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1</a:t>
            </a:r>
            <a:endParaRPr b="0" lang="en-US" sz="16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Problem mit 2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 typisches Sychronisierungs-problem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Zwei Threads sollen quasi-gleichzeitig die Fläche unter der Kurve berechn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chtung: Es gibt nur eine Variable „dSum“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 Statischer Kontext des 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Falsches Rechenergebnis!!!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Das Verhalten mit statischen Variablen kann aber auch erwünscht sein, z.B. Zählen von 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5541840" y="5484960"/>
            <a:ext cx="1543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2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Erzeugung von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44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Thread-Methoden in instanzierten Klass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Vorteil: Datenübergabe ist kein Problem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Jeder Thread hat seine eigene Instanz der Thread-Klass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Nachteil: Diese Vorgehensweise kostet etwas mehr Resourc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Performance und Speich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6068880" y="5553000"/>
            <a:ext cx="155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3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Parameterübergab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lle Variablen werden als „private“ in der Thread-Klasse deklarier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s gibt eine spezielle Funktion in der Thread-Klasse, welche..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...die Daten übernimm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...das Thread-Objekt erzeugt und zurückgib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as Rechenergebnis wird über ein Property der Thread-Klasse abgefrag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694480" y="5705640"/>
            <a:ext cx="20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4, 4A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Steuerung von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35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Prioritäten-Vergabe mit Thread.Priorit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uspend und Resum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bor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an muss feststellen können, ob der Thread seine Arbeit beendet ha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Möglichkeit: Bool‘sche Variabl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Book"/>
              </a:rPr>
              <a:t>Abfrage über Proper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Steuerung von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21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Bei „Abort“ wird immer eine ThreadAbortException geworf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In der Thread-Prozedur wird die Exception gefangen und es kann „aufgeräumt“ werd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6238800" y="4500720"/>
            <a:ext cx="1562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5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Synchronisieru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33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ie Synchronisierung soll den Zugriff auf begrenzte Resourcen des Rechners steuern, wenn mehrere Threads benutzt werd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Variablen (RAM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Codeteil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LPT-, COM- und USB-Schnittstell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Synchronisieru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96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e Synchronisierung beinhaltet immer die Gefahr eines „Deadlocks“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Rectangle 433155"/>
          <p:cNvSpPr/>
          <p:nvPr/>
        </p:nvSpPr>
        <p:spPr>
          <a:xfrm>
            <a:off x="755640" y="3141720"/>
            <a:ext cx="2952720" cy="2951280"/>
          </a:xfrm>
          <a:prstGeom prst="rect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read A war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33156"/>
          <p:cNvSpPr/>
          <p:nvPr/>
        </p:nvSpPr>
        <p:spPr>
          <a:xfrm>
            <a:off x="5219640" y="3141720"/>
            <a:ext cx="3024360" cy="2951280"/>
          </a:xfrm>
          <a:prstGeom prst="rect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read B hat d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nutz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read B war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 Threa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33157"/>
          <p:cNvSpPr/>
          <p:nvPr/>
        </p:nvSpPr>
        <p:spPr>
          <a:xfrm>
            <a:off x="4067280" y="3141720"/>
            <a:ext cx="792000" cy="71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33158"/>
          <p:cNvSpPr/>
          <p:nvPr/>
        </p:nvSpPr>
        <p:spPr>
          <a:xfrm flipH="1" flipV="1">
            <a:off x="4500360" y="3429000"/>
            <a:ext cx="143964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433159"/>
          <p:cNvSpPr/>
          <p:nvPr/>
        </p:nvSpPr>
        <p:spPr>
          <a:xfrm flipV="1">
            <a:off x="2411280" y="3500280"/>
            <a:ext cx="1584360" cy="433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433160"/>
          <p:cNvSpPr/>
          <p:nvPr/>
        </p:nvSpPr>
        <p:spPr>
          <a:xfrm flipH="1" flipV="1">
            <a:off x="2987280" y="5229360"/>
            <a:ext cx="2592360" cy="287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Agenda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2400" cy="451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führ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rzeugung von Thread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arameterübergabe, Performan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teuerung von Thread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riority, Suspend, Resume, Abor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ynchronisier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er Thread-Poo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Zusammenfass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Synchronisieru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Objekte für die Synchronisier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onito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emaphoren (Framework 2.0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Interlock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aitHandl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ReaderWriterLock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Im .NET-Framework gibt es Klassen für diese Synchronisations-Objekt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Gleichzeit. Code-Zugriff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39120" cy="49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Verhinderung des gleichzeitigen Code-Durchlaufs mit Monitor-Objek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ynchronisierung eines bestimmten Code-Bereiches, so dass nur ein Thread den Code benutz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as Monitor-Objekt kann nur innerhalb eines Prozesses verwendet werd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Zugriff auf eine Variable kann mit einem Monitor-Objekt gesteuert werd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6643800" y="6027840"/>
            <a:ext cx="1562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6</a:t>
            </a: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er .NET-Thread-Pool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388360" cy="51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Ziel: Möglichst einfaches Arbeiten mit mehreren 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Franklin Gothic Book"/>
              </a:rPr>
              <a:t>Optimal für Threads, die lange Zeit auf etwas warten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938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Franklin Gothic Book"/>
              </a:rPr>
              <a:t>Optimal für Threads, die periodisch erweckt werden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Der Thread-Pool stellt “fertige” Threads bereit, die genutzt werden könn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 Thread-Pool werden mehrere Threads für den Benutzer bereit gehalt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Aufruf aus dem Thread-Pool ist schneller, als die normale Thread-Erzeugu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er .NET-Thread-Pool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4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chtung: Man kann nur eine bestimmte Anzahl von Pool-Threads nutz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bfrage, wieviele Threads sind maximal möglich: ThreadPool.GetMax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bfrage, wieviele Threads sind jetzt noch möglich: ThreadPool.GetAvailable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ird versucht, mehr Threads als erlaubt, zu erzeugen, so landen die überzähligen Threads in einer Warteschlang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Property „IsThreadPoolThread“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er .NET-Thread-Pool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32720" cy="54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ystemkonzept: Pro Prozess gibt es einen ThreadPoo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nforderungen an den Pool werden über eine Warteschlange gestell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Muss eine Anforderung länger als eine halbe Sekunde warten, wird neuer Pool-Thread erzeug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aximal jedoch „GetMaxThreads“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Wird Pool-Thread 30 Sekunden nicht benötigt, wird Thread aus dem Pool entfern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er .NET-Thread-Pool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872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ie .NET-Runtime benutzt den Thread-Pool ebenfalls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synchrone Aufruf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ocket-Verbindung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I/O-Completion Por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Benutzung eines Pool-Threads mit ThreadPool.QueueUserWorkItem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Von unmanaged Code: CorQueueUserWorkItem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er .NET-Thread-Pool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388360" cy="36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8720" indent="-558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Wann sollte man den Thread-Pool nicht benutzen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enn der Thread eine bestimmte Priorität haben sol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enn der Thread lange Zeit laufen soll und evtl. andere Threads blockieren kan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enn man den Thread immer genau identifizieren will (zur Steuerung,…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5738760" y="533412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read7</a:t>
            </a:r>
            <a:endParaRPr b="0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Zusammenfassu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388360" cy="506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ultiple Threading ist mit .NET etwas einfacher geword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Multiple Threading ist nicht mehr abhängig von einer bestimmten Programmiersprach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Bevor man loslegt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977760" indent="-417240">
              <a:lnSpc>
                <a:spcPct val="80000"/>
              </a:lnSpc>
              <a:spcBef>
                <a:spcPts val="938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ffffff"/>
                </a:solidFill>
                <a:latin typeface="Franklin Gothic Book"/>
              </a:rPr>
              <a:t>Analyse, ob MT wirklich benötigt wird</a:t>
            </a:r>
            <a:endParaRPr b="0" lang="en-US" sz="25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Debugging und Testen ist schwieriger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Code wird etwas aufwändiger (z.B. durch Synchronisierung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uch sehr wichtig für „Sanduhr-freie“ Applikationen mit User-Interfac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58720" indent="-55872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OpenMP ist gut für Algorithm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hteck 3" descr=""/>
          <p:cNvPicPr/>
          <p:nvPr/>
        </p:nvPicPr>
        <p:blipFill>
          <a:blip r:embed="rId1"/>
          <a:stretch/>
        </p:blipFill>
        <p:spPr>
          <a:xfrm>
            <a:off x="122400" y="2762280"/>
            <a:ext cx="9216720" cy="118728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4"/>
          <p:cNvSpPr/>
          <p:nvPr/>
        </p:nvSpPr>
        <p:spPr>
          <a:xfrm>
            <a:off x="6138720" y="518472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2-3 Tage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Download der Demo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143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1440" y="140976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ranklin Gothic Medium"/>
              </a:rPr>
              <a:t>Questions and Answer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Übungsaufgabe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chreiben Sie ein Programm, welches ermittelt, ob zwei Klassen die gleichen Methoden enthäl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arameter sind ega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92" name="Rechteck 3" descr=""/>
          <p:cNvPicPr/>
          <p:nvPr/>
        </p:nvPicPr>
        <p:blipFill>
          <a:blip r:embed="rId3"/>
          <a:stretch/>
        </p:blipFill>
        <p:spPr>
          <a:xfrm>
            <a:off x="3925800" y="3998880"/>
            <a:ext cx="485784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15360" descr=""/>
          <p:cNvPicPr/>
          <p:nvPr/>
        </p:nvPicPr>
        <p:blipFill>
          <a:blip r:embed="rId1"/>
          <a:stretch/>
        </p:blipFill>
        <p:spPr>
          <a:xfrm>
            <a:off x="1981080" y="2870280"/>
            <a:ext cx="5181840" cy="85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Was ist ein Thread?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53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 Programm besteht mindestens aus einem Thread, dem Haupt-Thread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Wird vom Betriebssystem gestarte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 Thread ist ein „Ausführungsweg“ im Programm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Ein Thread führt ganz bestimmte Befehle nacheinander au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In einem Programm können mehrere unabhängige Threads existier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Kontrollflus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9680" y="1338120"/>
            <a:ext cx="853308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Synchrone Abarbeit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synchrone Abarbeitung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421000"/>
          <a:ext cx="7851960" cy="19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21000"/>
                    <a:ext cx="7851960" cy="1936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Was ist ein Thread?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7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Jeder Thread hat seinen eigenen Stack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Threads können jedoch auch globale Resourcen des Programms gemeinsam nutz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Jeder Thread hat eine bestimmte Prioritä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Das Betriebssystem vergibt über die Priorität entsprechende Zeitscheiben für die Ausführung an den Threa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Threads &amp; Prozessoren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7772400" cy="478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In einem Rechner mit mehreren Prozessoren können entsprechend viele Threads tatsächlich gleichzeitig lauf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Ein Rechner mit zwei Prozessoren ist aber nicht doppelt so schnell, wie sein Ein-Prozessor-Kolleg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ACHTUNG: Win95, 98 und ME können nur mit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Franklin Gothic Book"/>
              </a:rPr>
              <a:t>einem</a:t>
            </a: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 Prozessor arbeiten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Einsatz mehrerer Threads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772400" cy="53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Wann kann man mehrere Threads </a:t>
            </a:r>
            <a:r>
              <a:rPr b="1" lang="de-DE" sz="3200" spc="-1" strike="noStrike" u="sng">
                <a:solidFill>
                  <a:srgbClr val="ffffff"/>
                </a:solidFill>
                <a:uFillTx/>
                <a:latin typeface="Franklin Gothic Book"/>
              </a:rPr>
              <a:t>sinnvoll</a:t>
            </a: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 einsetzen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Bei intensiven, mathematischen Berechnung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Grafik-Algorithm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Drucker-Ausgab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Aufräumarbeiten im Hintergrun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Übertragen von Daten im Hintergrun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Flüssige“ UI-Applikationen (ohne Sanduhr)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.....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dd4f"/>
                </a:solidFill>
                <a:latin typeface="Franklin Gothic Medium"/>
              </a:rPr>
              <a:t>Kleine Warnung</a:t>
            </a:r>
            <a:endParaRPr b="0" lang="en-US" sz="4800" spc="-1" strike="noStrike">
              <a:solidFill>
                <a:srgbClr val="ffdd4f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772400" cy="489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Book"/>
              </a:rPr>
              <a:t>Die Programmierung von Applikationen mit mehreren Threads ist komplizier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Debugging, Fehlersuche, Teste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ynchronisieru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Ordentliches Beenden von Thre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Fehlerbehandlung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Parameterübergab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Franklin Gothic Book"/>
              </a:rPr>
              <a:t>Saubere Planung und Prioritätenvergab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6T19:29:56Z</dcterms:created>
  <dc:creator>Microsoft</dc:creator>
  <dc:description/>
  <cp:keywords>TechNet</cp:keywords>
  <dc:language>en-US</dc:language>
  <cp:lastModifiedBy>Bernd</cp:lastModifiedBy>
  <dcterms:modified xsi:type="dcterms:W3CDTF">2007-06-01T11:08:01Z</dcterms:modified>
  <cp:revision>581</cp:revision>
  <dc:subject>Qx FYxx Content</dc:subject>
  <dc:title>Sess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ategorie">
    <vt:lpwstr>Planung</vt:lpwstr>
  </property>
  <property fmtid="{D5CDD505-2E9C-101B-9397-08002B2CF9AE}" pid="3" name="Program">
    <vt:lpwstr>TechNet</vt:lpwstr>
  </property>
  <property fmtid="{D5CDD505-2E9C-101B-9397-08002B2CF9AE}" pid="4" name="Session ID">
    <vt:lpwstr>TNTx-xx</vt:lpwstr>
  </property>
  <property fmtid="{D5CDD505-2E9C-101B-9397-08002B2CF9AE}" pid="5" name="Status">
    <vt:lpwstr>Work in Progress</vt:lpwstr>
  </property>
  <property fmtid="{D5CDD505-2E9C-101B-9397-08002B2CF9AE}" pid="6" name="Support">
    <vt:lpwstr>devhelp@microsoft.com</vt:lpwstr>
  </property>
  <property fmtid="{D5CDD505-2E9C-101B-9397-08002B2CF9AE}" pid="7" name="Version">
    <vt:lpwstr>3.0</vt:lpwstr>
  </property>
  <property fmtid="{D5CDD505-2E9C-101B-9397-08002B2CF9AE}" pid="8" name="build">
    <vt:lpwstr>0</vt:lpwstr>
  </property>
</Properties>
</file>